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gif" ContentType="image/gif"/>
  <Override PartName="/ppt/media/image11.wmf" ContentType="image/x-wmf"/>
  <Override PartName="/ppt/media/image17.jpeg" ContentType="image/jpeg"/>
  <Override PartName="/ppt/media/image6.wmf" ContentType="image/x-wmf"/>
  <Override PartName="/ppt/media/image10.wmf" ContentType="image/x-wmf"/>
  <Override PartName="/ppt/media/image2.png" ContentType="image/png"/>
  <Override PartName="/ppt/media/image21.jpeg" ContentType="image/jpeg"/>
  <Override PartName="/ppt/media/image20.png" ContentType="image/png"/>
  <Override PartName="/ppt/media/image19.wmf" ContentType="image/x-wmf"/>
  <Override PartName="/ppt/media/image9.jpeg" ContentType="image/jpeg"/>
  <Override PartName="/ppt/media/image18.wmf" ContentType="image/x-wmf"/>
  <Override PartName="/ppt/media/image1.png" ContentType="image/png"/>
  <Override PartName="/ppt/media/image14.jpeg" ContentType="image/jpeg"/>
  <Override PartName="/ppt/media/image16.wmf" ContentType="image/x-wmf"/>
  <Override PartName="/ppt/media/image15.jpeg" ContentType="image/jpeg"/>
  <Override PartName="/ppt/media/image3.wmf" ContentType="image/x-wmf"/>
  <Override PartName="/ppt/media/image4.gif" ContentType="image/gif"/>
  <Override PartName="/ppt/media/image7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A699-2289-4270-AAF1-D6684651D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 F5 to start game.  Ctrl-End for help on creating a new g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slide immediately follows each question slide.  Click on question mark to go to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left box at bottom returns to game board.  Clicking right box returns to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 F5 to start g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C521-798E-4229-9AC4-53EC5B55C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5081-48E7-4BEF-AD28-89D2135B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00AB-A9AE-4419-BBB1-C7A075FE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23C-F4F7-4B4A-8CBE-DE24A489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8371-EA19-4436-AD1C-8808126D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85BD-2221-4A45-9093-868CFCFB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B2F5-9B09-4BF2-A9C2-C4F7C3CA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59F9-96D6-4DC9-AE79-6ED071E9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22D0-B133-4F3F-8C85-5AD9B92A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0027-1D22-47FD-A581-2C8C095D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0ADC-59DA-4BBB-BB31-FCC15FF6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A8C9-452B-44CB-986D-7EB79513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C04B-18B5-41C5-93A0-91D661B3E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gif"/><Relationship Id="rId4" Type="http://schemas.openxmlformats.org/officeDocument/2006/relationships/slide" Target="slide4.xml"/><Relationship Id="rId5" Type="http://schemas.openxmlformats.org/officeDocument/2006/relationships/image" Target="../media/image13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oleObject" Target="../embeddings/oleObject2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3.wmf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oleObject" Target="../embeddings/oleObject1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4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4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4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4.xml"/><Relationship Id="rId4" Type="http://schemas.openxmlformats.org/officeDocument/2006/relationships/image" Target="../media/image3.wmf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image" Target="../media/image4.gi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5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5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5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5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5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slide" Target="slide14.xml"/><Relationship Id="rId4" Type="http://schemas.openxmlformats.org/officeDocument/2006/relationships/slide" Target="slide20.xml"/><Relationship Id="rId5" Type="http://schemas.openxmlformats.org/officeDocument/2006/relationships/slide" Target="slide38.xml"/><Relationship Id="rId6" Type="http://schemas.openxmlformats.org/officeDocument/2006/relationships/slide" Target="slide28.xml"/><Relationship Id="rId7" Type="http://schemas.openxmlformats.org/officeDocument/2006/relationships/slide" Target="slide36.xml"/><Relationship Id="rId8" Type="http://schemas.openxmlformats.org/officeDocument/2006/relationships/slide" Target="slide26.xml"/><Relationship Id="rId9" Type="http://schemas.openxmlformats.org/officeDocument/2006/relationships/slide" Target="slide34.xml"/><Relationship Id="rId10" Type="http://schemas.openxmlformats.org/officeDocument/2006/relationships/slide" Target="slide22.xml"/><Relationship Id="rId11" Type="http://schemas.openxmlformats.org/officeDocument/2006/relationships/slide" Target="slide24.xml"/><Relationship Id="rId12" Type="http://schemas.openxmlformats.org/officeDocument/2006/relationships/slide" Target="slide32.xml"/><Relationship Id="rId13" Type="http://schemas.openxmlformats.org/officeDocument/2006/relationships/slide" Target="slide30.xml"/><Relationship Id="rId14" Type="http://schemas.openxmlformats.org/officeDocument/2006/relationships/slide" Target="slide18.xml"/><Relationship Id="rId15" Type="http://schemas.openxmlformats.org/officeDocument/2006/relationships/slide" Target="slide16.xml"/><Relationship Id="rId16" Type="http://schemas.openxmlformats.org/officeDocument/2006/relationships/slide" Target="slide58.xml"/><Relationship Id="rId17" Type="http://schemas.openxmlformats.org/officeDocument/2006/relationships/slide" Target="slide56.xml"/><Relationship Id="rId18" Type="http://schemas.openxmlformats.org/officeDocument/2006/relationships/slide" Target="slide54.xml"/><Relationship Id="rId19" Type="http://schemas.openxmlformats.org/officeDocument/2006/relationships/slide" Target="slide52.xml"/><Relationship Id="rId20" Type="http://schemas.openxmlformats.org/officeDocument/2006/relationships/slide" Target="slide50.xml"/><Relationship Id="rId21" Type="http://schemas.openxmlformats.org/officeDocument/2006/relationships/slide" Target="slide48.xml"/><Relationship Id="rId22" Type="http://schemas.openxmlformats.org/officeDocument/2006/relationships/slide" Target="slide46.xml"/><Relationship Id="rId23" Type="http://schemas.openxmlformats.org/officeDocument/2006/relationships/slide" Target="slide44.xml"/><Relationship Id="rId24" Type="http://schemas.openxmlformats.org/officeDocument/2006/relationships/slide" Target="slide42.xml"/><Relationship Id="rId25" Type="http://schemas.openxmlformats.org/officeDocument/2006/relationships/slide" Target="slide40.xml"/><Relationship Id="rId26" Type="http://schemas.openxmlformats.org/officeDocument/2006/relationships/slide" Target="slide12.xml"/><Relationship Id="rId27" Type="http://schemas.openxmlformats.org/officeDocument/2006/relationships/slide" Target="slide62.xml"/><Relationship Id="rId28" Type="http://schemas.openxmlformats.org/officeDocument/2006/relationships/slide" Target="slide60.xml"/><Relationship Id="rId29" Type="http://schemas.openxmlformats.org/officeDocument/2006/relationships/slide" Target="slide64.xml"/><Relationship Id="rId30" Type="http://schemas.openxmlformats.org/officeDocument/2006/relationships/slide" Target="slide66.xml"/><Relationship Id="rId31" Type="http://schemas.openxmlformats.org/officeDocument/2006/relationships/slide" Target="slide68.xml"/><Relationship Id="rId32" Type="http://schemas.openxmlformats.org/officeDocument/2006/relationships/slide" Target="slide5.xml"/><Relationship Id="rId33" Type="http://schemas.openxmlformats.org/officeDocument/2006/relationships/slide" Target="slide6.xml"/><Relationship Id="rId34" Type="http://schemas.openxmlformats.org/officeDocument/2006/relationships/slide" Target="slide7.xml"/><Relationship Id="rId35" Type="http://schemas.openxmlformats.org/officeDocument/2006/relationships/slide" Target="slide8.xml"/><Relationship Id="rId36" Type="http://schemas.openxmlformats.org/officeDocument/2006/relationships/slide" Target="slide9.xml"/><Relationship Id="rId37" Type="http://schemas.openxmlformats.org/officeDocument/2006/relationships/slide" Target="slide10.xml"/><Relationship Id="rId38" Type="http://schemas.openxmlformats.org/officeDocument/2006/relationships/slide" Target="slide74.xml"/><Relationship Id="rId3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6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6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3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image" Target="../media/image17.jpeg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6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6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image" Target="../media/image13.wmf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oleObject" Target="../embeddings/oleObject1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7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3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image" Target="../media/image17.jpeg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7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7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7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7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3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image" Target="../media/image17.jpeg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image" Target="../media/image13.wmf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oleObject" Target="../embeddings/oleObject1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8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8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8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8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slide" Target="slide9.xml"/><Relationship Id="rId4" Type="http://schemas.openxmlformats.org/officeDocument/2006/relationships/image" Target="../media/image13.wmf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oleObject" Target="../embeddings/oleObject1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9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9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9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9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slide" Target="slide3.xml"/><Relationship Id="rId5" Type="http://schemas.openxmlformats.org/officeDocument/2006/relationships/slide" Target="slide72.xml"/><Relationship Id="rId6" Type="http://schemas.openxmlformats.org/officeDocument/2006/relationships/image" Target="../media/image13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19.wmf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62120" y="1981080"/>
            <a:ext cx="777240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ess  F5  t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art gam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-304920"/>
            <a:ext cx="17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emplate Version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-22860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j0172629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10517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163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24382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173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75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7238880" y="5638680"/>
            <a:ext cx="1905120" cy="1371600"/>
            <a:chOff x="7238880" y="5638680"/>
            <a:chExt cx="1905120" cy="1371600"/>
          </a:xfrm>
        </p:grpSpPr>
        <p:pic>
          <p:nvPicPr>
            <p:cNvPr id="177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86728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>
              <a:hlinkClick r:id="rId7" action="ppaction://hlinksldjump"/>
            </p:cNvPr>
            <p:cNvSpPr/>
            <p:nvPr/>
          </p:nvSpPr>
          <p:spPr>
            <a:xfrm>
              <a:off x="7238880" y="563868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7543800" y="586728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180" name=""/>
          <p:cNvGraphicFramePr/>
          <p:nvPr/>
        </p:nvGraphicFramePr>
        <p:xfrm>
          <a:off x="228600" y="3276720"/>
          <a:ext cx="2562120" cy="814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8600" y="3276720"/>
                    <a:ext cx="25621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3048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j010517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92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>
              <a:hlinkClick r:id="rId7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195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743200" y="1523880"/>
            <a:ext cx="579132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3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204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06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208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3124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25146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79840" y="2479680"/>
            <a:ext cx="20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221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224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819520" y="1523880"/>
            <a:ext cx="5715000" cy="396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3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234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36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238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733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43434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250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253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2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263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65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267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27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277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280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9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290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92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294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64400" y="514440"/>
            <a:ext cx="393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99"/>
                </a:solidFill>
                <a:latin typeface="Times New Roman"/>
              </a:rPr>
              <a:t>This is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BD05092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2895480"/>
            <a:ext cx="3803760" cy="3451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ning 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14400" y="609480"/>
            <a:ext cx="7620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ath Jeopard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5562720" y="5638680"/>
            <a:ext cx="3581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j023646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238880" y="539424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58" name="BD05091_" descr=""/>
          <p:cNvPicPr/>
          <p:nvPr/>
        </p:nvPicPr>
        <p:blipFill>
          <a:blip r:embed="rId8"/>
          <a:stretch/>
        </p:blipFill>
        <p:spPr>
          <a:xfrm>
            <a:off x="1447920" y="0"/>
            <a:ext cx="3322440" cy="3027240"/>
          </a:xfrm>
          <a:prstGeom prst="rect">
            <a:avLst/>
          </a:prstGeom>
          <a:ln w="0">
            <a:noFill/>
          </a:ln>
        </p:spPr>
      </p:pic>
      <p:pic>
        <p:nvPicPr>
          <p:cNvPr id="59" name="j0182990" descr=""/>
          <p:cNvPicPr/>
          <p:nvPr/>
        </p:nvPicPr>
        <p:blipFill>
          <a:blip r:embed="rId9"/>
          <a:stretch/>
        </p:blipFill>
        <p:spPr>
          <a:xfrm>
            <a:off x="6095880" y="6858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2520" y="3047760"/>
            <a:ext cx="3886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99"/>
                </a:solidFill>
                <a:latin typeface="Times New Roman"/>
              </a:rPr>
              <a:t>Enter Topi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99"/>
                </a:solidFill>
                <a:latin typeface="Times New Roman"/>
              </a:rPr>
              <a:t>H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j0130271" descr=""/>
          <p:cNvPicPr/>
          <p:nvPr/>
        </p:nvPicPr>
        <p:blipFill>
          <a:blip r:embed="rId10"/>
          <a:stretch/>
        </p:blipFill>
        <p:spPr>
          <a:xfrm>
            <a:off x="2057400" y="2362320"/>
            <a:ext cx="4672080" cy="4282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019400" y="1847880"/>
                <a:ext cx="11304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990720" y="29718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30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08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311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71800" y="1676520"/>
            <a:ext cx="28195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895480" y="2666880"/>
          <a:ext cx="5613480" cy="154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2666880"/>
                    <a:ext cx="5613480" cy="15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1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322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24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326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33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38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0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35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53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355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2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36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65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7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378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80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382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39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92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4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405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07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409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419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1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432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34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436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228600"/>
            <a:ext cx="8686800" cy="838080"/>
          </a:xfrm>
          <a:prstGeom prst="rect">
            <a:avLst/>
          </a:prstGeom>
          <a:solidFill>
            <a:srgbClr val="00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Math Jeopar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380880" y="1447920"/>
            <a:ext cx="106704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34290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0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1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34290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3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4" action="ppaction://hlinksldjump"/>
              </a:rPr>
              <a:t>$5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7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34290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9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2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34290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4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5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352680"/>
            <a:ext cx="914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6" action="ppaction://hlinksldjump"/>
              </a:rPr>
              <a:t>$2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3429000"/>
            <a:ext cx="87624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4872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8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48720" y="4267080"/>
            <a:ext cx="914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872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32" action="ppaction://hlinksldjump"/>
          </p:cNvPr>
          <p:cNvSpPr/>
          <p:nvPr/>
        </p:nvSpPr>
        <p:spPr>
          <a:xfrm>
            <a:off x="1905120" y="1447920"/>
            <a:ext cx="106668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33" action="ppaction://hlinksldjump"/>
          </p:cNvPr>
          <p:cNvSpPr/>
          <p:nvPr/>
        </p:nvSpPr>
        <p:spPr>
          <a:xfrm>
            <a:off x="3276720" y="1447920"/>
            <a:ext cx="121896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34" action="ppaction://hlinksldjump"/>
          </p:cNvPr>
          <p:cNvSpPr/>
          <p:nvPr/>
        </p:nvSpPr>
        <p:spPr>
          <a:xfrm>
            <a:off x="4800600" y="1447920"/>
            <a:ext cx="106668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t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35" action="ppaction://hlinksldjump"/>
          </p:cNvPr>
          <p:cNvSpPr/>
          <p:nvPr/>
        </p:nvSpPr>
        <p:spPr>
          <a:xfrm>
            <a:off x="6248520" y="1447920"/>
            <a:ext cx="106668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t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36" action="ppaction://hlinksldjump"/>
          </p:cNvPr>
          <p:cNvSpPr/>
          <p:nvPr/>
        </p:nvSpPr>
        <p:spPr>
          <a:xfrm>
            <a:off x="7772400" y="1447920"/>
            <a:ext cx="106668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t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7" action="ppaction://hlinksldjump"/>
              </a:rPr>
              <a:t>$1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9560" y="205740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lick on a category for hel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a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>
            <a:hlinkClick r:id="rId38" action="ppaction://hlinksldjump"/>
          </p:cNvPr>
          <p:cNvSpPr/>
          <p:nvPr/>
        </p:nvSpPr>
        <p:spPr>
          <a:xfrm>
            <a:off x="2362320" y="0"/>
            <a:ext cx="4419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445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446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449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8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459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61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463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0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472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473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6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487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89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491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8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01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3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514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16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518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5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52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28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895480" y="1523880"/>
            <a:ext cx="5943600" cy="396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0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54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43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545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2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j010517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555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56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>
              <a:hlinkClick r:id="rId7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-45720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8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569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71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573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at1Hel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971800" y="2438280"/>
          <a:ext cx="331164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3311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-360" y="-533520"/>
            <a:ext cx="2514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0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582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83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586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6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597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99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601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8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610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611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3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624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26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628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3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5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63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638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124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0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65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53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655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2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66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665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7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678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80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682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9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69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692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048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5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706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08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710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at2Hel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971800" y="2438280"/>
          <a:ext cx="331164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3311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7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9" name="j010517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720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721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">
              <a:hlinkClick r:id="rId7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724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6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048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3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734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36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738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886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3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5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91120" y="5638680"/>
            <a:ext cx="1209600" cy="1055880"/>
          </a:xfrm>
          <a:prstGeom prst="rect">
            <a:avLst/>
          </a:prstGeom>
          <a:ln w="0">
            <a:noFill/>
          </a:ln>
        </p:spPr>
      </p:pic>
      <p:grpSp>
        <p:nvGrpSpPr>
          <p:cNvPr id="74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748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4" name=""/>
          <p:cNvGrpSpPr/>
          <p:nvPr/>
        </p:nvGrpSpPr>
        <p:grpSpPr>
          <a:xfrm>
            <a:off x="2895480" y="3809880"/>
            <a:ext cx="4181400" cy="2233440"/>
            <a:chOff x="2895480" y="3809880"/>
            <a:chExt cx="4181400" cy="2233440"/>
          </a:xfrm>
        </p:grpSpPr>
        <p:pic>
          <p:nvPicPr>
            <p:cNvPr id="755" name="" descr=""/>
            <p:cNvPicPr/>
            <p:nvPr/>
          </p:nvPicPr>
          <p:blipFill>
            <a:blip r:embed="rId9"/>
            <a:stretch/>
          </p:blipFill>
          <p:spPr>
            <a:xfrm>
              <a:off x="3657600" y="3809880"/>
              <a:ext cx="238104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 txBox="1"/>
            <p:nvPr/>
          </p:nvSpPr>
          <p:spPr>
            <a:xfrm>
              <a:off x="2895480" y="4495680"/>
              <a:ext cx="4181400" cy="10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DAILY DOUBLE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1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3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764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66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768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20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5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6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77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778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2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2819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0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79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93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795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2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80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05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5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7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818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20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822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7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9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0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83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32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6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4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845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47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849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at3Hel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971800" y="2438280"/>
          <a:ext cx="331164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3311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971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4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6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8" name="j010517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859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60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">
              <a:hlinkClick r:id="rId7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863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0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2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873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75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877" name="Jeopardy%20Thumbnail" descr=""/>
            <p:cNvPicPr/>
            <p:nvPr/>
          </p:nvPicPr>
          <p:blipFill>
            <a:blip r:embed="rId5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8" name=""/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2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4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5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88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87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1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93" name=""/>
          <p:cNvGrpSpPr/>
          <p:nvPr/>
        </p:nvGrpSpPr>
        <p:grpSpPr>
          <a:xfrm>
            <a:off x="2971800" y="3657600"/>
            <a:ext cx="4181400" cy="2233440"/>
            <a:chOff x="2971800" y="3657600"/>
            <a:chExt cx="4181400" cy="2233440"/>
          </a:xfrm>
        </p:grpSpPr>
        <p:pic>
          <p:nvPicPr>
            <p:cNvPr id="894" name="" descr=""/>
            <p:cNvPicPr/>
            <p:nvPr/>
          </p:nvPicPr>
          <p:blipFill>
            <a:blip r:embed="rId9"/>
            <a:stretch/>
          </p:blipFill>
          <p:spPr>
            <a:xfrm>
              <a:off x="3733920" y="3657600"/>
              <a:ext cx="238104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 txBox="1"/>
            <p:nvPr/>
          </p:nvSpPr>
          <p:spPr>
            <a:xfrm>
              <a:off x="2971800" y="4343400"/>
              <a:ext cx="4181400" cy="10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DAILY DOUBLE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124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0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2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903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05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907" name="Jeopardy%20Thumbnail" descr=""/>
            <p:cNvPicPr/>
            <p:nvPr/>
          </p:nvPicPr>
          <p:blipFill>
            <a:blip r:embed="rId5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"/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048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2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4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5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91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17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4920" y="914400"/>
            <a:ext cx="853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581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8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30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93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33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935" name="Jeopardy%20Thumbnail" descr=""/>
            <p:cNvPicPr/>
            <p:nvPr/>
          </p:nvPicPr>
          <p:blipFill>
            <a:blip r:embed="rId5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0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2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3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94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45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6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9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5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7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958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9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60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962" name="Jeopardy%20Thumbnail" descr=""/>
            <p:cNvPicPr/>
            <p:nvPr/>
          </p:nvPicPr>
          <p:blipFill>
            <a:blip r:embed="rId5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"/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7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968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9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0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97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72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-360" y="-38088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2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4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985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87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989" name="Jeopardy%20Thumbnail" descr=""/>
            <p:cNvPicPr/>
            <p:nvPr/>
          </p:nvPicPr>
          <p:blipFill>
            <a:blip r:embed="rId5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0" name=""/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at4Hel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971800" y="2438280"/>
          <a:ext cx="331164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3311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20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Jeopardy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567080" y="0"/>
            <a:ext cx="619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5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996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7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99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0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002" name="j0105174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3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2819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Jeopardy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953680" y="0"/>
            <a:ext cx="318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9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1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1012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3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14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1016" name="Jeopardy%20Thumbnail" descr=""/>
            <p:cNvPicPr/>
            <p:nvPr/>
          </p:nvPicPr>
          <p:blipFill>
            <a:blip r:embed="rId5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7" name=""/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Jeopardy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09480" y="2895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e 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/>
          <p:nvPr/>
        </p:nvSpPr>
        <p:spPr>
          <a:xfrm>
            <a:off x="1752120" y="1219320"/>
            <a:ext cx="30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0065A Slot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7" name="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8" name=""/>
          <p:cNvSpPr/>
          <p:nvPr/>
        </p:nvSpPr>
        <p:spPr>
          <a:xfrm>
            <a:off x="1828800" y="198108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0074879 Space 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9" name="" descr=""/>
          <p:cNvPicPr/>
          <p:nvPr/>
        </p:nvPicPr>
        <p:blipFill>
          <a:blip r:embed="rId3"/>
          <a:stretch/>
        </p:blipFill>
        <p:spPr>
          <a:xfrm>
            <a:off x="838080" y="3048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1828800" y="289548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0074877 Space Las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520" y="5638680"/>
            <a:ext cx="423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Not Delet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ains objects for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2" name="" descr=""/>
          <p:cNvPicPr/>
          <p:nvPr/>
        </p:nvPicPr>
        <p:blipFill>
          <a:blip r:embed="rId4"/>
          <a:stretch/>
        </p:blipFill>
        <p:spPr>
          <a:xfrm>
            <a:off x="853920" y="3844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/>
          <p:nvPr/>
        </p:nvSpPr>
        <p:spPr>
          <a:xfrm>
            <a:off x="1904760" y="373392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0097484 Large Explo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nd and other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4724280" y="4191120"/>
            <a:ext cx="4181400" cy="2233440"/>
            <a:chOff x="4724280" y="4191120"/>
            <a:chExt cx="4181400" cy="2233440"/>
          </a:xfrm>
        </p:grpSpPr>
        <p:pic>
          <p:nvPicPr>
            <p:cNvPr id="1036" name="" descr=""/>
            <p:cNvPicPr/>
            <p:nvPr/>
          </p:nvPicPr>
          <p:blipFill>
            <a:blip r:embed="rId5"/>
            <a:stretch/>
          </p:blipFill>
          <p:spPr>
            <a:xfrm>
              <a:off x="5486400" y="4191120"/>
              <a:ext cx="238104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7" name=""/>
            <p:cNvSpPr txBox="1"/>
            <p:nvPr/>
          </p:nvSpPr>
          <p:spPr>
            <a:xfrm>
              <a:off x="4724280" y="4876920"/>
              <a:ext cx="4181400" cy="10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DAILY DOUBLE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1038" name="" descr=""/>
          <p:cNvPicPr/>
          <p:nvPr/>
        </p:nvPicPr>
        <p:blipFill>
          <a:blip r:embed="rId6"/>
          <a:stretch/>
        </p:blipFill>
        <p:spPr>
          <a:xfrm>
            <a:off x="838080" y="4648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9" name=""/>
          <p:cNvSpPr/>
          <p:nvPr/>
        </p:nvSpPr>
        <p:spPr>
          <a:xfrm>
            <a:off x="1906560" y="457200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0074988 Space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gn 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Design Credi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33520" y="129528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Point Slide Show crea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y Wy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n Hope High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risville, 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6" name="Randy%202002%20School%20Photo" descr=""/>
          <p:cNvPicPr/>
          <p:nvPr/>
        </p:nvPicPr>
        <p:blipFill>
          <a:blip r:embed="rId2"/>
          <a:srcRect l="0" t="0" r="0" b="4599"/>
          <a:stretch/>
        </p:blipFill>
        <p:spPr>
          <a:xfrm>
            <a:off x="3657600" y="3429000"/>
            <a:ext cx="1798560" cy="2362320"/>
          </a:xfrm>
          <a:prstGeom prst="rect">
            <a:avLst/>
          </a:prstGeom>
          <a:ln w="0">
            <a:noFill/>
          </a:ln>
        </p:spPr>
      </p:pic>
      <p:sp>
        <p:nvSpPr>
          <p:cNvPr id="1047" name=""/>
          <p:cNvSpPr/>
          <p:nvPr/>
        </p:nvSpPr>
        <p:spPr>
          <a:xfrm>
            <a:off x="1676520" y="586728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pted from Slide Show by Carol N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ision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Revision Histo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33520" y="1295280"/>
            <a:ext cx="800100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sion 4 – June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 points to doll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ed link to credits screen by clicking on “Math Jeopardy” on game 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 problems and answers to generic place hol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or color and sound changes on opening game scr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sion 5 – September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moved macros and visual basic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rranged “back to problem” and “back to game board” buttons on answer p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lp for Teachers – Keep as las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Help for Teac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371600" y="1143000"/>
            <a:ext cx="7162920" cy="56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reate a new set of categories and problem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date topics on title screen (slide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ame category headers on question board (slide 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ge category help slides (immediately following question bo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ify questions and answers (answers immediately follow each question sli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t and Paste Daily Dou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p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stions and answers are MathType objects.  It is easier if you keep it that way.  Even for text probl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put copy of question on the answer slide, copy and paste the MathType object from the question slide then resiz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EXIT graphic on the game board will exit WITHOUT saving anything.  It is intended for student use when play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ke sure you test your game to make sure everything is linked and working correct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n playing the intro screen of the game you can click in the lower right corner at any time to skip the intro and go directly to the question boa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 NO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ge any hyperlin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867280" y="6324480"/>
            <a:ext cx="305964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 &lt;ctrl&gt;&lt;home&gt; to return to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at5Hel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971800" y="2438280"/>
          <a:ext cx="331164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3311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at6Hel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971800" y="2438280"/>
          <a:ext cx="331164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3311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CPSS</cp:lastModifiedBy>
  <dcterms:modified xsi:type="dcterms:W3CDTF">2003-09-28T23:08:54Z</dcterms:modified>
  <cp:revision>179</cp:revision>
  <dc:subject/>
  <dc:title>PowerPoint Presentation</dc:title>
</cp:coreProperties>
</file>